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F01CF-C5C6-494B-B4AA-4D7921888D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7BCB6-5AEA-4D66-B7E5-C39F808D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F8EECF-77BA-4178-9049-86B88E31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1CF5A5-3B81-4512-86F0-3C221D2B7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E9CF28-0533-4D84-AA06-5A703AF6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B95905-8992-42E1-B897-5C9B2A8E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F9684D-4883-4B3C-85D6-8ADC8C33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62FD58-5C6A-42AC-8D28-DD494B51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EF6E85-493F-49D2-BDC6-311E4F82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F7ED50-F7C2-4B41-94E3-C7115D51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EB8659-545F-4DB7-BA56-D733370940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AE2EE-4133-48B4-BF1E-8880226285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08597-02B1-4D39-8CFF-83D36FDA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E7165-DBBC-4B3F-A055-64FC0E09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9CF50-30D3-496D-9EDC-62C53CC3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16B2A-FA9B-4179-8A85-62903292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19BE7-7646-4659-9F02-3AC6B0536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E01B8-61A9-40E7-BD00-13831AF8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4D4A2-3F3E-460E-A917-BB5F24CF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C9C0B-261D-4A20-8FD2-B9FA9066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DD1F9-F01D-4AEB-96AA-77ABE1B4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EFD09-47CE-4296-AE22-360FE48F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A6D9A-552B-46F1-809A-E01BE010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7D2D3-68B9-40DE-A055-A920AC5CEF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E247D-620E-43B0-B579-1F77CA19BD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8F7FD1-8C37-4376-B0F8-1650CF1DCE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0AED9F-63DD-49AC-A163-85AC53DB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40FC69-04AB-4CF5-8CE0-8F057FC9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98C77D-D487-4242-91D8-DCBE5DFD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6FA777-CAAD-49B5-BCC0-491CCD2BF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8A55FE-6EFE-45AE-875D-A8D11ED9F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64EF07-C8FA-4B4D-9BC1-75F11D78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DD28D9-2C8B-4D4F-ADA9-540F4471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FA3D68-9A5B-41E1-B21B-CEFAFDEB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CF293-5B0D-46FE-888E-0FC482808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D8D5EB-942E-4C72-B2DA-AC7833EB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2A516A-193B-4974-8C9F-BAC87BC6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692C10-B5FC-408F-9105-5DD3BCC0B8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EFC62D-6617-4AD6-B58E-AC2A626F57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FE47E8-D861-4C5A-9AE1-1FB1CCD2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6D0F33-E6EF-4345-9E5A-6F281493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42C04C-BD8D-484F-B2D7-343E3D9E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42D5CB-9E4A-4843-91BB-78C35FCC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3CA23A-55D1-4D54-A7B7-C3D9717AF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4283E8-7489-4D33-82D1-B32EEDDC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9C16F-364D-4068-A9E7-0AA64567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460253-D7EC-479A-9525-305BF6D0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D1D0F5-E89D-4DBD-B9EF-1B28216E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07AC9B-B089-4BD4-83E4-176AB452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C4C029-47B3-40AD-BCFB-91C7ADDF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BDCED0-96F9-4E60-8B9B-5C48100804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599D2-291B-4C3C-8CCA-137E0137E8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09897A-E9A5-4478-A73E-0DBEA7CE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E0C17-278F-4DE3-BB02-E92C2D49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A45AD-FECB-41A9-999B-BF66341C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E7186-BF6E-43E1-A535-3E462AEE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6536C-5298-4249-982E-23C6282A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AEBB6-D873-4D65-927B-D252FE653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4F0FB-A216-4369-BA0F-8380A76B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C6CE0-3827-414D-B3AE-44F0EFA8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26A92-213F-4B9A-9231-F34005B0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D8827-F98C-4761-9658-127512D3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922E8-3A71-4310-90DF-E82843DE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DA576-4D29-441D-A139-15E3BB52D8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00FD5-57E8-4F17-BBB4-61133273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00A82-6802-462A-86A1-182639B8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8E9B0-7D27-48F4-A492-132131ED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2FE59-5C9F-4446-8574-2881E630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18609-1E07-4B98-B398-4CA1C420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40138-7737-4E2E-B428-2C2CA01A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1A39C-ADF5-46FB-9235-38B59397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A9157-1C46-4DA3-B988-FED88E17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A2BA32-D57A-4F3C-A931-9B28A474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5D791-884B-4855-B6F1-9CD1ACB1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E558E-8DCF-431A-856E-A0FD4CD0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72B14-63B1-46BE-BCF5-186BA27D5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DF429-9898-452F-8CD7-0A932D80A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33CDB-9175-41D9-BFC3-8B63452E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5BE69-AF56-4F8A-88CB-2095B0A8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A0884-4E6D-416F-915A-961277DE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D5C97-DBBB-490E-A01B-9A28825A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6318D-23C8-461E-8EA9-7F743B65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DE594-3349-45F4-A881-D19647BD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554D2-2E9E-4BC3-88E1-B4D65475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D6FCD-E79B-431E-9B2A-0F8C5B1B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0FE1D-4572-4B16-89B6-C63BE71A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97B06-0EB0-483C-B52D-B21A194C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87681-C7E6-4FB9-8257-59398A55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F846B-5786-4116-B375-1AFE17374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DC703-BE78-4E48-B04E-20C81C19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84292-82F5-4969-8F33-AFC1E04C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D81BD-7A9F-4CB5-AFDA-A86C00864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40037F-F646-4B51-B392-4E426D0D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C46B5-EC8C-44EE-A145-06E02608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7C870-A7E9-4573-91DC-A804AC8D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4E8B6-DBBE-4724-8B58-18ABB969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93D69-36B8-43BA-94A4-6D1C693A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A017D-4148-423E-B98B-F6E60085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C2F557-C345-4780-8B4D-71EB4416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0F9F5-BDD3-4BD7-9F36-ACA5493C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DC8C9-02C1-4331-99D9-0AF3EEB1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B477B-6C3F-40FD-A05F-C7E0AB18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2DA9EC-497C-472A-A595-57942A0B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E6F77E-FCDC-4E2C-A789-1DF594699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D0EA95-767D-416D-B042-C8F92658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B8408A-D3B9-49E0-8278-4E61152E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E455D1-96D5-4590-8B4A-8A7FAC40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4DEBD0-7BEB-431F-A967-8042549F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01BD4D-73D7-4DA3-954A-85E3F2ED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0D1D71-8522-4FB6-9EE4-72E57D57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26A5C9-F1BF-4DDB-8E9A-4AC4E29A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559D8-CE44-4DDF-90D1-F048B1B8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253DB-14F8-44C0-9EA5-006748FE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E81C48-49E5-4B2E-83E2-DDA77E0E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F6F988-947E-4816-950D-0358CFBF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74712F-4FEA-4174-8550-DA0B7FA9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29F0E7-1C83-42C4-8026-C420638A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84A82B-2E46-417A-BFDA-CB99C44D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12A1CE-D0AB-47EF-832C-E1AA5560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9C5C36-197D-4997-90A1-F8F7ECA6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C7E018-5AE5-42B7-B0F6-F7222B02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EC5A06-F048-4581-9B30-0EDCE92B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F5F815-8030-44B3-B8A8-44BA162D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99BC9-BC71-4A5F-9BED-722E4D80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1F1E25-889C-4AC8-A225-1174B2DD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417A29-EB03-44AE-BF5F-ABA9B41C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9EBA65-87DE-4780-9DCD-321C7CC2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1B91AF-4656-4CDA-8214-09403C9F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5E07E9-BFA6-4743-80F4-215F2E7C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563507-E9F0-443B-83F3-3C73445D9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9E0E34-63A6-475F-8F0E-8FA23096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3C594E-10A0-4F9D-B673-82F61AAAA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9EABC7-B8CD-4310-9E91-D33CE6D0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FB2305-3218-470B-98B6-A79730E0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EA489-3EAC-497C-834E-A09EE3CB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FCDE45-E60C-4264-82DA-DF46B235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A13FD2-CAC0-46F4-9542-916FAC84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3D9616-6277-4DB9-849D-E28F6B26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3682FE-906F-4D60-91C3-CD3FD3C4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32D9A2-EB9C-40AA-B8F9-C7B16287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21269C-1C3B-4A37-8EA4-B3FA5516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C0987A-7CD1-4FE4-9FB5-A4201565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DB2618-3692-4C8E-A454-265DDFD0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361B63-EC3E-401C-B221-DEA07678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D9240B-890B-4429-8D12-E0829BA0A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AEF51-1A92-4C2E-82ED-63476E8E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D2CF4E-B9FC-47F8-9057-2A6BD79E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B04D44-5774-49E8-871B-58E684D1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AB70B5-E5C0-45F3-98A1-9AE8A972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8F3838-9816-4B69-93C6-3B5D7D43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7B08F0-7B9D-47DF-AFC8-E0338AE1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1F3D72-01CF-4983-A962-111D66BD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6DAB40-019D-4D79-96E7-2A1125C5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C5472F-A29C-4842-A665-4BE75F58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74E470-CF3A-4AB3-AEC3-139E8D38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82F7F2-0A0D-4422-BF4A-E8BF3CE66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F795B-D2B5-4E72-A17D-B07E4F0D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F98581-3659-4971-B850-B389304C1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630EB0-BA3F-493E-A74B-5269FCD51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3FB4E6-AEFB-4AB3-A0C1-FBF51EEA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BE3F39-61D0-4AE2-B155-37DB1055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311E5B-CCDB-48F2-9BD3-0380F75B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E19527-0ACF-45C3-A992-25ED96D9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A142BE-502C-4259-8418-2AC1B8BB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2414C9-23A5-4B75-86BA-41C7FE5C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C8C972-4CA5-4F75-99DE-8C8D6C6B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E65298-025E-4CC1-81DF-77EE79E6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7AAF5C-3836-42A2-8352-ADEFF70E68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56247A-9DC1-41D4-9DA1-7D6DEF4C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886AE2-FD55-45E6-BD86-E19C3E83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48633B-D07B-41B6-8A66-70D50B1D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DECAE1-D56C-45C6-B506-B9364305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A3104E-D2D6-4DD0-ABDD-7728B308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3EED41-E388-435D-97EB-08B7F45B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4548D8-A21F-44C9-BEF5-1525F69D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6A3D03-E6FB-4FBE-9CEC-CB931B5D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068D1C-14AC-41E4-A857-E6878D25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A188DF-7E0C-4180-AE66-B0E0F653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F2822A-EA12-42FE-B434-60833FEE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E4BE83-28BB-461B-BB45-B98D1201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BE1DF8-EAFB-4AF6-8079-79CF1DAA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936DC2-8E3C-4BB1-B321-3ADEA97C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64FD09-4B8F-464B-972F-201E78287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D97B7B-0DDE-4ED4-89BA-9BBDBD5BA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63A1D0-C349-489A-8C38-D7EB13E85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4A8571-1804-4864-A665-E87F774D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978211-9816-4CD6-A9D9-FF95FDF0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660296-FEF5-4B38-8EE8-4A54BA86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E05839-B57E-4075-9E42-8BB027B8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B2F7EE-20DF-4982-AD85-FF41A6E4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FE1672-9A49-44F9-9A20-8ADE2BE1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194164-5637-415F-9AF0-71B02EFA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B28C1C-5649-42E8-AA44-9547D138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BF6AE8-8CF2-458D-B949-F00BE394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6A6F1C-72FF-4881-9B79-65CFA54A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51B058-D52F-4DA3-A7E6-3E0EE6981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47756B-DDDF-41AD-BF2A-D91BACE7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07EE07-91F7-4BD1-9ECE-DF31F8510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EBE907-AAB1-49CE-8000-43C5A2D8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391853-B5BD-44A9-939A-9713354B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D24981-B6FE-42BA-B1FB-B740CBE5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067CB9-C667-4798-8F29-4CFDFDBC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FD6278-63EF-43C0-AE71-44F14226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5EEA2C-17C4-4DDD-9014-C1C47B11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8BB934-B8E7-4ED0-8BEA-B6FF189B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6DB8B0-9173-417E-A187-1C4C62FC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CF3118-0921-4A5D-B34C-54B7CEBA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770E48-BD90-4BAF-97C5-D1513029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CFA533-CDF2-48B4-A1F5-49B964F4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D1FFE5-683F-49C9-B07D-527BB7D15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E14808-1F02-400F-B85D-5FFFEE552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F5029-DD8B-488C-B393-6A481A1A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3B800C-3D01-4CC1-834A-6AF217F6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1DD304-129E-4B98-B4A5-871E9068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2F3764-F06C-4D29-892A-1C8D3EB4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0E76B5-65F6-421F-9F10-91E944F5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A8D026-A21A-4F00-AF82-7E000661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76655D-8144-4E89-A001-CD3E3677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4733AD-56FF-4781-A926-D9C8083B44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1B02B-CB38-49AA-924F-8C1D68FD6C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49198-6747-48A3-AB04-6E4AEEF4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31435-03DD-4551-AE43-37580A36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FC87A-6D7D-49B1-8BB8-ACF9B555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CF015-3996-4BC6-BAC9-5DB325D2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ED2AF-94B3-47C4-9C11-574CB8E62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E0963-7D74-49AB-B832-EFF6E85F5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400BF-E449-47C3-A9C3-7E94006D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1C330-6C62-4E44-B0CD-82E58BE6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6157B-F8C9-4FDB-B92B-6BAE8E23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38D28-3A12-4F4B-9794-B89E868D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FBEE1-F329-44CC-9E83-55E99F98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E0155-606E-41E4-85F0-69BD0E6972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7446A4-20F6-43B9-B54B-752D03DF69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98E0B-6282-42C0-A128-E43D464B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0EE4B5-C27F-4060-A410-B5493B95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486042-DE12-490B-A843-7C11101E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DB56CA-27B1-4702-B7E5-46BC060C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F0A191-CA57-42BE-8171-F3D0D682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E3472E-7478-450F-8806-5280E671E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AC2C46-1953-4184-A49B-8D5B7351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800A8B-8B84-4B99-AFA3-5B66E3B5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7FCB9A-79CD-4910-8CD9-C284AEE8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B80E9E-B761-4571-BA54-CCEC8970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EC809E-3904-4875-9E25-CB97E298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464FD-C0DB-4CE0-BA70-C3068BFF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FC2F50-B2FC-42D8-8264-B439F06089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3F216B-7C72-41D2-88C1-89CC610490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D13EAD-9316-4209-B0DB-90F11838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BBE252-E008-4144-9A98-E7AAF52B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1F9748-BEF1-4EDC-97AA-28B2675A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4E8BD4-55D2-4EC3-9214-B4B6DD7A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98CE59-48A7-4FE3-915D-DBD9AEAF4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5DDB4C-A802-47E2-9FBC-4B9FFBAE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77E37C-4DF0-46CE-9C15-F6FD09A7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C5CBD9-68BC-46C8-8D60-92A488CA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50009-A69C-45C3-909D-81E03906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54BF7D-B640-43F6-B196-0A438613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F27C97-3B80-49E9-B235-2F16126E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302A21-F032-4F46-8756-0FB8AFD886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24856-53ED-4C53-8357-BA8AFBE1BC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344CC-E8A2-4A44-B8A0-48B72018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2E1B5-68FB-4A01-BBC3-FA8464F0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FDB5F-F80E-46BA-8C87-A26150C4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80D01-6B5E-4F81-831B-70D1BC2D6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DFB63-1226-4307-8149-56D74983F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25145-4FEB-4F31-AF75-DDB2A662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56410-BDF7-47BA-907C-79C00548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0AB8C-1829-49AA-BFB7-F2A665E4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4C362-572C-455E-B956-83EA4E3E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849B7-177B-48F7-9D0A-98FC1FBA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58C99-7709-4D3E-B42D-20B0EAB8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0B575-12B1-438A-9ED3-31284017DD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071D80-44AA-45C2-82CA-97711B8F9A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96C7DB-8457-4FDE-9896-0135808C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1E4629-C3FF-43C2-B761-D70D332B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3A21B0-0348-48B3-82C2-B7B13C18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74F514-14CF-4A08-BDE3-4A8192656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23A0E-86A0-4C1D-909F-1B27DA97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BC0024-E7FF-4DFD-9C6E-8F58D3C8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34EF2B-D649-4CE0-AC3E-D98B1243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00ECCF-7B9D-474D-8A30-038B2C06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30F179-0813-44A3-93DF-3A220AB5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3A8862-2AAE-442A-8C90-2C714877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17A70F-4C2E-47B3-BE15-A2E7A67E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8DB2FE-D4F6-43BD-9E9E-FFEAB87A7A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5DEBBB-71F0-4373-BBA2-A0F5FEF7A6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9D5B6E-9D10-467E-832E-58A57CB5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18128C-5608-4815-9CA0-4D342EEE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23F9-BE8C-4613-A897-A7DF25FC437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ADFB-394D-44B3-B3DA-66CE0A841C8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948E-22A9-4FDA-9512-2C6C9E93827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2C87-5BAC-4F7A-B51A-D0A8DBEB791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7926-9EA3-4544-B174-2E29CF7F40D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6282-5DC0-46C7-9706-FD90AC40E5E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FD45-15F8-4273-AFDC-D1E4C9214AE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856F-BB66-4410-A717-0A27261B302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0D83-4646-471F-94D6-FB478CB3DED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CCC6-B17D-47CA-BFBF-5649865CBC0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8649-D642-4972-8E21-F795AB3F50F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0330-70C8-4800-A7CA-420AEDCD043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6A1B-1F8A-46AC-9A1B-DD948553EE7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AE36-B9F7-4696-9D3C-7FBA6E11C76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4E68-434A-4531-B9EB-71F3B6A923F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ED65-D1CC-4C0D-BEB4-C85D507F334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F2CA-2CAE-4C82-B48A-EE10A6F0448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9AAE-1CE1-4A14-BD25-C07454BCF75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62DC-1C39-4E14-8C19-C1EAFAC5F65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C052-1A85-4940-99A7-BCD3E69737E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CA63-864C-4121-A06A-67C76DC2730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BD8E-A89A-48C3-92B8-1FAA72242A9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009C-7274-4D20-B4A5-0A528ED8D7C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62F5-1BF9-4148-9B9B-CC85ACAD429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三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725560" y="2703600"/>
            <a:ext cx="55908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2182680" y="2652840"/>
            <a:ext cx="759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整 理 和 复 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6284880" cy="360"/>
            <a:chOff x="2284560" y="2448000"/>
            <a:chExt cx="628488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62848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6284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325440" y="1744560"/>
            <a:ext cx="924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以内的加法和减法（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-47520" y="44280"/>
            <a:ext cx="3171600" cy="525600"/>
            <a:chOff x="-47520" y="44280"/>
            <a:chExt cx="3171600" cy="525600"/>
          </a:xfrm>
        </p:grpSpPr>
        <p:pic>
          <p:nvPicPr>
            <p:cNvPr id="999" name="圆角矩形 2" descr=""/>
            <p:cNvPicPr/>
            <p:nvPr/>
          </p:nvPicPr>
          <p:blipFill>
            <a:blip r:embed="rId1"/>
            <a:stretch/>
          </p:blipFill>
          <p:spPr>
            <a:xfrm>
              <a:off x="99000" y="44280"/>
              <a:ext cx="302508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-47520" y="140040"/>
              <a:ext cx="420120" cy="272160"/>
              <a:chOff x="-47520" y="140040"/>
              <a:chExt cx="420120" cy="27216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193680" y="303840"/>
                <a:ext cx="97920" cy="118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162360" y="268920"/>
                <a:ext cx="210240" cy="11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193680" y="178200"/>
                <a:ext cx="97920" cy="118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62360" y="154800"/>
                <a:ext cx="210240" cy="114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-47520" y="285120"/>
                <a:ext cx="347040" cy="10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-47520" y="256680"/>
                <a:ext cx="347040" cy="10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-47520" y="168480"/>
                <a:ext cx="347040" cy="10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-47520" y="140040"/>
                <a:ext cx="347040" cy="101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09" name="组合 24"/>
          <p:cNvGrpSpPr/>
          <p:nvPr/>
        </p:nvGrpSpPr>
        <p:grpSpPr>
          <a:xfrm>
            <a:off x="201600" y="855720"/>
            <a:ext cx="8777160" cy="4892400"/>
            <a:chOff x="201600" y="855720"/>
            <a:chExt cx="8777160" cy="4892400"/>
          </a:xfrm>
        </p:grpSpPr>
        <p:sp>
          <p:nvSpPr>
            <p:cNvPr id="1010" name="文本框 1"/>
            <p:cNvSpPr/>
            <p:nvPr/>
          </p:nvSpPr>
          <p:spPr>
            <a:xfrm>
              <a:off x="201600" y="3479760"/>
              <a:ext cx="2405160" cy="13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万以内的加法和减法（一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AutoShape 20"/>
            <p:cNvSpPr/>
            <p:nvPr/>
          </p:nvSpPr>
          <p:spPr>
            <a:xfrm flipV="1" rot="10800000">
              <a:off x="2461320" y="2226960"/>
              <a:ext cx="145440" cy="2944080"/>
            </a:xfrm>
            <a:custGeom>
              <a:avLst/>
              <a:gdLst>
                <a:gd name="textAreaLeft" fmla="*/ 0 w 145440"/>
                <a:gd name="textAreaRight" fmla="*/ 52560 w 145440"/>
                <a:gd name="textAreaTop" fmla="*/ 44280 h 2944080"/>
                <a:gd name="textAreaBottom" fmla="*/ 2899800 h 294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20"/>
                    <a:pt x="10800" y="1040"/>
                  </a:cubicBezTo>
                  <a:lnTo>
                    <a:pt x="10800" y="9760"/>
                  </a:lnTo>
                  <a:cubicBezTo>
                    <a:pt x="10800" y="10280"/>
                    <a:pt x="16200" y="10800"/>
                    <a:pt x="21600" y="10800"/>
                  </a:cubicBezTo>
                  <a:cubicBezTo>
                    <a:pt x="16200" y="10800"/>
                    <a:pt x="10800" y="11320"/>
                    <a:pt x="10800" y="11840"/>
                  </a:cubicBezTo>
                  <a:lnTo>
                    <a:pt x="10800" y="20560"/>
                  </a:lnTo>
                  <a:cubicBezTo>
                    <a:pt x="10800" y="2108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圆角矩形 3"/>
            <p:cNvSpPr/>
            <p:nvPr/>
          </p:nvSpPr>
          <p:spPr>
            <a:xfrm>
              <a:off x="2788560" y="2089080"/>
              <a:ext cx="2232720" cy="8636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圆角矩形 5"/>
            <p:cNvSpPr/>
            <p:nvPr/>
          </p:nvSpPr>
          <p:spPr>
            <a:xfrm>
              <a:off x="2788560" y="3353400"/>
              <a:ext cx="2232720" cy="8636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圆角矩形 6"/>
            <p:cNvSpPr/>
            <p:nvPr/>
          </p:nvSpPr>
          <p:spPr>
            <a:xfrm>
              <a:off x="2788560" y="4456440"/>
              <a:ext cx="2232720" cy="8636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右箭头 7"/>
            <p:cNvSpPr/>
            <p:nvPr/>
          </p:nvSpPr>
          <p:spPr>
            <a:xfrm>
              <a:off x="5199840" y="2304720"/>
              <a:ext cx="360000" cy="287640"/>
            </a:xfrm>
            <a:prstGeom prst="rightArrow">
              <a:avLst>
                <a:gd name="adj1" fmla="val 50000"/>
                <a:gd name="adj2" fmla="val 49993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右箭头 8"/>
            <p:cNvSpPr/>
            <p:nvPr/>
          </p:nvSpPr>
          <p:spPr>
            <a:xfrm>
              <a:off x="5199840" y="3555360"/>
              <a:ext cx="360000" cy="287640"/>
            </a:xfrm>
            <a:prstGeom prst="rightArrow">
              <a:avLst>
                <a:gd name="adj1" fmla="val 50000"/>
                <a:gd name="adj2" fmla="val 49993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右箭头 9"/>
            <p:cNvSpPr/>
            <p:nvPr/>
          </p:nvSpPr>
          <p:spPr>
            <a:xfrm>
              <a:off x="5199840" y="4815360"/>
              <a:ext cx="360000" cy="287640"/>
            </a:xfrm>
            <a:prstGeom prst="rightArrow">
              <a:avLst>
                <a:gd name="adj1" fmla="val 50000"/>
                <a:gd name="adj2" fmla="val 49993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文本框 10"/>
            <p:cNvSpPr/>
            <p:nvPr/>
          </p:nvSpPr>
          <p:spPr>
            <a:xfrm>
              <a:off x="2890080" y="2169720"/>
              <a:ext cx="23094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两位数加减两位数的口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文本框 12"/>
            <p:cNvSpPr/>
            <p:nvPr/>
          </p:nvSpPr>
          <p:spPr>
            <a:xfrm>
              <a:off x="2788560" y="3388320"/>
              <a:ext cx="2329560" cy="7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几百几十加减几百几十的笔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文本框 14"/>
            <p:cNvSpPr/>
            <p:nvPr/>
          </p:nvSpPr>
          <p:spPr>
            <a:xfrm>
              <a:off x="2826000" y="4513320"/>
              <a:ext cx="2292120" cy="74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加减法的估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文本框 15"/>
            <p:cNvSpPr/>
            <p:nvPr/>
          </p:nvSpPr>
          <p:spPr>
            <a:xfrm>
              <a:off x="5761800" y="890640"/>
              <a:ext cx="3216960" cy="13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口算两位数加两位数的方法：可以先用两位数加整十数，再加一位数；也可以先用整十数加整十数，个位数加个位数，再把两次所得的和相加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文本框 16"/>
            <p:cNvSpPr/>
            <p:nvPr/>
          </p:nvSpPr>
          <p:spPr>
            <a:xfrm>
              <a:off x="5926680" y="2304720"/>
              <a:ext cx="2886120" cy="11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口算两位数减两位数的方法：先用两位数减整十数，再用所得的差减一位数。口算有困难时可以列式计算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矩形 17"/>
            <p:cNvSpPr/>
            <p:nvPr/>
          </p:nvSpPr>
          <p:spPr>
            <a:xfrm>
              <a:off x="5761800" y="855720"/>
              <a:ext cx="2952720" cy="1371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矩形 18"/>
            <p:cNvSpPr/>
            <p:nvPr/>
          </p:nvSpPr>
          <p:spPr>
            <a:xfrm>
              <a:off x="5860080" y="2304720"/>
              <a:ext cx="2952720" cy="1047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矩形 19"/>
            <p:cNvSpPr/>
            <p:nvPr/>
          </p:nvSpPr>
          <p:spPr>
            <a:xfrm>
              <a:off x="5860080" y="3465360"/>
              <a:ext cx="2952720" cy="1047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文本框 20"/>
            <p:cNvSpPr/>
            <p:nvPr/>
          </p:nvSpPr>
          <p:spPr>
            <a:xfrm>
              <a:off x="5860080" y="3479760"/>
              <a:ext cx="29527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哪一位上的数相加满十就要向前一位进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；哪一位上的数不够减，就从前一位退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当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</a:rPr>
                <a:t>10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矩形 21"/>
            <p:cNvSpPr/>
            <p:nvPr/>
          </p:nvSpPr>
          <p:spPr>
            <a:xfrm>
              <a:off x="5761800" y="4700520"/>
              <a:ext cx="2952720" cy="1047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文本框 22"/>
            <p:cNvSpPr/>
            <p:nvPr/>
          </p:nvSpPr>
          <p:spPr>
            <a:xfrm>
              <a:off x="5817600" y="4793400"/>
              <a:ext cx="284112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根据问题和生活实际选择恰当的估算策略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组合 5"/>
          <p:cNvGrpSpPr/>
          <p:nvPr/>
        </p:nvGrpSpPr>
        <p:grpSpPr>
          <a:xfrm>
            <a:off x="0" y="712800"/>
            <a:ext cx="8786880" cy="3357720"/>
            <a:chOff x="0" y="712800"/>
            <a:chExt cx="8786880" cy="3357720"/>
          </a:xfrm>
        </p:grpSpPr>
        <p:pic>
          <p:nvPicPr>
            <p:cNvPr id="1030" name="Picture 2" descr="D:\我的文档-桌面-收藏夹\桌面\老师 拷贝.jpg"/>
            <p:cNvPicPr/>
            <p:nvPr/>
          </p:nvPicPr>
          <p:blipFill>
            <a:blip r:embed="rId1"/>
            <a:stretch/>
          </p:blipFill>
          <p:spPr>
            <a:xfrm>
              <a:off x="0" y="801720"/>
              <a:ext cx="3924000" cy="32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1" name="圆角矩形标注 4"/>
            <p:cNvSpPr/>
            <p:nvPr/>
          </p:nvSpPr>
          <p:spPr>
            <a:xfrm>
              <a:off x="2625120" y="712800"/>
              <a:ext cx="6161760" cy="1547640"/>
            </a:xfrm>
            <a:prstGeom prst="wedgeRoundRectCallout">
              <a:avLst>
                <a:gd name="adj1" fmla="val -54148"/>
                <a:gd name="adj2" fmla="val 96509"/>
                <a:gd name="adj3" fmla="val 16667"/>
              </a:avLst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两位数加、减两位数和几百几十加、减几百几十的计算要注意什么？它们之间有什么联系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组合 6"/>
          <p:cNvGrpSpPr/>
          <p:nvPr/>
        </p:nvGrpSpPr>
        <p:grpSpPr>
          <a:xfrm>
            <a:off x="379440" y="4143240"/>
            <a:ext cx="3836880" cy="1524240"/>
            <a:chOff x="379440" y="4143240"/>
            <a:chExt cx="3836880" cy="1524240"/>
          </a:xfrm>
        </p:grpSpPr>
        <p:pic>
          <p:nvPicPr>
            <p:cNvPr id="1033" name="Picture 4" descr="C:\Documents and Settings\Administrator\桌面\人\海豚.jpg海豚"/>
            <p:cNvPicPr/>
            <p:nvPr/>
          </p:nvPicPr>
          <p:blipFill>
            <a:blip r:embed="rId2"/>
            <a:stretch/>
          </p:blipFill>
          <p:spPr>
            <a:xfrm>
              <a:off x="379440" y="4452840"/>
              <a:ext cx="99972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4" name="AutoShape 27"/>
            <p:cNvSpPr/>
            <p:nvPr/>
          </p:nvSpPr>
          <p:spPr>
            <a:xfrm>
              <a:off x="1601280" y="4143240"/>
              <a:ext cx="2615040" cy="1120320"/>
            </a:xfrm>
            <a:prstGeom prst="wedgeRoundRectCallout">
              <a:avLst>
                <a:gd name="adj1" fmla="val -58810"/>
                <a:gd name="adj2" fmla="val 3277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1c1c1c"/>
                  </a:solidFill>
                  <a:latin typeface="Comic Sans MS"/>
                  <a:ea typeface="宋体"/>
                </a:rPr>
                <a:t>相同数位上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1c1c1c"/>
                  </a:solidFill>
                  <a:latin typeface="Comic Sans MS"/>
                  <a:ea typeface="宋体"/>
                </a:rPr>
                <a:t>数才能相加减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组合 9"/>
          <p:cNvGrpSpPr/>
          <p:nvPr/>
        </p:nvGrpSpPr>
        <p:grpSpPr>
          <a:xfrm>
            <a:off x="4156200" y="2681280"/>
            <a:ext cx="4538520" cy="1531800"/>
            <a:chOff x="4156200" y="2681280"/>
            <a:chExt cx="4538520" cy="1531800"/>
          </a:xfrm>
        </p:grpSpPr>
        <p:sp>
          <p:nvSpPr>
            <p:cNvPr id="1036" name="AutoShape 27"/>
            <p:cNvSpPr/>
            <p:nvPr/>
          </p:nvSpPr>
          <p:spPr>
            <a:xfrm>
              <a:off x="4156200" y="2681280"/>
              <a:ext cx="2786040" cy="1483200"/>
            </a:xfrm>
            <a:prstGeom prst="wedgeRoundRectCallout">
              <a:avLst>
                <a:gd name="adj1" fmla="val 63745"/>
                <a:gd name="adj2" fmla="val -16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650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减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340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其实减就是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65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十减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34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十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7" name="Picture 2" descr="C:\Documents and Settings\Administrator\桌面\人\蜜蜂.gif蜜蜂"/>
            <p:cNvPicPr/>
            <p:nvPr/>
          </p:nvPicPr>
          <p:blipFill>
            <a:blip r:embed="rId3"/>
            <a:stretch/>
          </p:blipFill>
          <p:spPr>
            <a:xfrm>
              <a:off x="7722360" y="3142080"/>
              <a:ext cx="972360" cy="107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8" name="TextBox 12"/>
          <p:cNvSpPr/>
          <p:nvPr/>
        </p:nvSpPr>
        <p:spPr>
          <a:xfrm>
            <a:off x="4286160" y="4070520"/>
            <a:ext cx="24289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 5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宋体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 4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3 1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直接连接符 14"/>
          <p:cNvSpPr/>
          <p:nvPr/>
        </p:nvSpPr>
        <p:spPr>
          <a:xfrm>
            <a:off x="4214880" y="5641920"/>
            <a:ext cx="1714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文本框 3"/>
          <p:cNvSpPr/>
          <p:nvPr/>
        </p:nvSpPr>
        <p:spPr>
          <a:xfrm>
            <a:off x="338040" y="957240"/>
            <a:ext cx="22766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、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文本框 6"/>
          <p:cNvSpPr/>
          <p:nvPr/>
        </p:nvSpPr>
        <p:spPr>
          <a:xfrm>
            <a:off x="441360" y="1703520"/>
            <a:ext cx="7026120" cy="43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最大的两位数与最小的两位数的差是（         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用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组成的一个最大的三位数是（     ）；用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组成一个最大的三位数是（    ）。它们的和是（    ），差是（   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比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64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数是（     ）；比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64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少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数是（     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力家上个月的电费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元，这个月的电费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元。两个月的电费共（     ）元，这个月比上个月节约（      ）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在     里填上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”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椭圆 8"/>
          <p:cNvSpPr/>
          <p:nvPr/>
        </p:nvSpPr>
        <p:spPr>
          <a:xfrm>
            <a:off x="1128600" y="4464000"/>
            <a:ext cx="28728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文本框 9"/>
          <p:cNvSpPr/>
          <p:nvPr/>
        </p:nvSpPr>
        <p:spPr>
          <a:xfrm>
            <a:off x="636480" y="4929120"/>
            <a:ext cx="3214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0+90        90+3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文本框 10"/>
          <p:cNvSpPr/>
          <p:nvPr/>
        </p:nvSpPr>
        <p:spPr>
          <a:xfrm>
            <a:off x="636480" y="5435640"/>
            <a:ext cx="3214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0-80        700-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文本框 12"/>
          <p:cNvSpPr/>
          <p:nvPr/>
        </p:nvSpPr>
        <p:spPr>
          <a:xfrm>
            <a:off x="573120" y="5805360"/>
            <a:ext cx="32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0+110        600-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椭圆 14"/>
          <p:cNvSpPr/>
          <p:nvPr/>
        </p:nvSpPr>
        <p:spPr>
          <a:xfrm>
            <a:off x="1568520" y="4994280"/>
            <a:ext cx="287280" cy="28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椭圆 15"/>
          <p:cNvSpPr/>
          <p:nvPr/>
        </p:nvSpPr>
        <p:spPr>
          <a:xfrm>
            <a:off x="1649520" y="5869080"/>
            <a:ext cx="28728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椭圆 16"/>
          <p:cNvSpPr/>
          <p:nvPr/>
        </p:nvSpPr>
        <p:spPr>
          <a:xfrm>
            <a:off x="1542960" y="5429160"/>
            <a:ext cx="289080" cy="28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文本框 17"/>
          <p:cNvSpPr/>
          <p:nvPr/>
        </p:nvSpPr>
        <p:spPr>
          <a:xfrm>
            <a:off x="4714920" y="1703520"/>
            <a:ext cx="887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文本框 18"/>
          <p:cNvSpPr/>
          <p:nvPr/>
        </p:nvSpPr>
        <p:spPr>
          <a:xfrm>
            <a:off x="4714920" y="2251080"/>
            <a:ext cx="88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文本框 19"/>
          <p:cNvSpPr/>
          <p:nvPr/>
        </p:nvSpPr>
        <p:spPr>
          <a:xfrm>
            <a:off x="2744640" y="2557440"/>
            <a:ext cx="887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文本框 20"/>
          <p:cNvSpPr/>
          <p:nvPr/>
        </p:nvSpPr>
        <p:spPr>
          <a:xfrm>
            <a:off x="5033880" y="2557440"/>
            <a:ext cx="887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9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文本框 21"/>
          <p:cNvSpPr/>
          <p:nvPr/>
        </p:nvSpPr>
        <p:spPr>
          <a:xfrm>
            <a:off x="6664320" y="2557440"/>
            <a:ext cx="887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文本框 22"/>
          <p:cNvSpPr/>
          <p:nvPr/>
        </p:nvSpPr>
        <p:spPr>
          <a:xfrm>
            <a:off x="2744640" y="3105000"/>
            <a:ext cx="887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文本框 23"/>
          <p:cNvSpPr/>
          <p:nvPr/>
        </p:nvSpPr>
        <p:spPr>
          <a:xfrm>
            <a:off x="5921280" y="3105000"/>
            <a:ext cx="88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文本框 24"/>
          <p:cNvSpPr/>
          <p:nvPr/>
        </p:nvSpPr>
        <p:spPr>
          <a:xfrm>
            <a:off x="1415880" y="3886200"/>
            <a:ext cx="8877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文本框 25"/>
          <p:cNvSpPr/>
          <p:nvPr/>
        </p:nvSpPr>
        <p:spPr>
          <a:xfrm>
            <a:off x="5033880" y="3886200"/>
            <a:ext cx="8874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文本框 26"/>
          <p:cNvSpPr/>
          <p:nvPr/>
        </p:nvSpPr>
        <p:spPr>
          <a:xfrm>
            <a:off x="1542960" y="4929120"/>
            <a:ext cx="4129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宋体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文本框 27"/>
          <p:cNvSpPr/>
          <p:nvPr/>
        </p:nvSpPr>
        <p:spPr>
          <a:xfrm>
            <a:off x="1481040" y="5378400"/>
            <a:ext cx="4111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宋体"/>
                <a:ea typeface="宋体"/>
              </a:rPr>
              <a:t>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文本框 28"/>
          <p:cNvSpPr/>
          <p:nvPr/>
        </p:nvSpPr>
        <p:spPr>
          <a:xfrm>
            <a:off x="1542960" y="5805360"/>
            <a:ext cx="4129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宋体"/>
                <a:ea typeface="宋体"/>
              </a:rPr>
              <a:t>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文本框 1"/>
          <p:cNvSpPr/>
          <p:nvPr/>
        </p:nvSpPr>
        <p:spPr>
          <a:xfrm>
            <a:off x="365040" y="797040"/>
            <a:ext cx="306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、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文本框 3"/>
          <p:cNvSpPr/>
          <p:nvPr/>
        </p:nvSpPr>
        <p:spPr>
          <a:xfrm>
            <a:off x="466560" y="1511280"/>
            <a:ext cx="633744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直接写出得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8-40=                             68-24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8+40=                            120+230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6-45=                             45+23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+25=                             500+110=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文本框 4"/>
          <p:cNvSpPr/>
          <p:nvPr/>
        </p:nvSpPr>
        <p:spPr>
          <a:xfrm>
            <a:off x="1581120" y="2054160"/>
            <a:ext cx="6285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文本框 5"/>
          <p:cNvSpPr/>
          <p:nvPr/>
        </p:nvSpPr>
        <p:spPr>
          <a:xfrm>
            <a:off x="5060880" y="2054160"/>
            <a:ext cx="630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文本框 6"/>
          <p:cNvSpPr/>
          <p:nvPr/>
        </p:nvSpPr>
        <p:spPr>
          <a:xfrm>
            <a:off x="1697040" y="2629080"/>
            <a:ext cx="63036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文本框 7"/>
          <p:cNvSpPr/>
          <p:nvPr/>
        </p:nvSpPr>
        <p:spPr>
          <a:xfrm>
            <a:off x="5338800" y="2565360"/>
            <a:ext cx="8967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文本框 8"/>
          <p:cNvSpPr/>
          <p:nvPr/>
        </p:nvSpPr>
        <p:spPr>
          <a:xfrm>
            <a:off x="1581120" y="3156120"/>
            <a:ext cx="628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文本框 9"/>
          <p:cNvSpPr/>
          <p:nvPr/>
        </p:nvSpPr>
        <p:spPr>
          <a:xfrm>
            <a:off x="5157720" y="3156120"/>
            <a:ext cx="6303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文本框 10"/>
          <p:cNvSpPr/>
          <p:nvPr/>
        </p:nvSpPr>
        <p:spPr>
          <a:xfrm>
            <a:off x="1697040" y="3736800"/>
            <a:ext cx="6303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文本框 12"/>
          <p:cNvSpPr/>
          <p:nvPr/>
        </p:nvSpPr>
        <p:spPr>
          <a:xfrm>
            <a:off x="5472000" y="3736800"/>
            <a:ext cx="10875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文本框 1"/>
          <p:cNvSpPr/>
          <p:nvPr/>
        </p:nvSpPr>
        <p:spPr>
          <a:xfrm>
            <a:off x="425520" y="968400"/>
            <a:ext cx="630216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竖式计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60-280=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320+480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90+270=                                       340+260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文本框 3"/>
          <p:cNvSpPr/>
          <p:nvPr/>
        </p:nvSpPr>
        <p:spPr>
          <a:xfrm>
            <a:off x="2021040" y="1362240"/>
            <a:ext cx="927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文本框 4"/>
          <p:cNvSpPr/>
          <p:nvPr/>
        </p:nvSpPr>
        <p:spPr>
          <a:xfrm>
            <a:off x="6727680" y="1246320"/>
            <a:ext cx="9273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文本框 5"/>
          <p:cNvSpPr/>
          <p:nvPr/>
        </p:nvSpPr>
        <p:spPr>
          <a:xfrm>
            <a:off x="1928880" y="3513240"/>
            <a:ext cx="927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文本框 6"/>
          <p:cNvSpPr/>
          <p:nvPr/>
        </p:nvSpPr>
        <p:spPr>
          <a:xfrm>
            <a:off x="6662880" y="3513240"/>
            <a:ext cx="927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6" name="组合 12"/>
          <p:cNvGrpSpPr/>
          <p:nvPr/>
        </p:nvGrpSpPr>
        <p:grpSpPr>
          <a:xfrm>
            <a:off x="722160" y="1830240"/>
            <a:ext cx="1792440" cy="1382400"/>
            <a:chOff x="722160" y="1830240"/>
            <a:chExt cx="1792440" cy="1382400"/>
          </a:xfrm>
        </p:grpSpPr>
        <p:sp>
          <p:nvSpPr>
            <p:cNvPr id="1077" name="文本框 7"/>
            <p:cNvSpPr/>
            <p:nvPr/>
          </p:nvSpPr>
          <p:spPr>
            <a:xfrm>
              <a:off x="722160" y="1830240"/>
              <a:ext cx="17924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9   6   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-  2   8   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直接连接符 9"/>
            <p:cNvSpPr/>
            <p:nvPr/>
          </p:nvSpPr>
          <p:spPr>
            <a:xfrm>
              <a:off x="722160" y="2661840"/>
              <a:ext cx="1506600" cy="0"/>
            </a:xfrm>
            <a:prstGeom prst="line">
              <a:avLst/>
            </a:prstGeom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文本框 10"/>
            <p:cNvSpPr/>
            <p:nvPr/>
          </p:nvSpPr>
          <p:spPr>
            <a:xfrm>
              <a:off x="998640" y="2767680"/>
              <a:ext cx="1229760" cy="44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6   8  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组合 25"/>
          <p:cNvGrpSpPr/>
          <p:nvPr/>
        </p:nvGrpSpPr>
        <p:grpSpPr>
          <a:xfrm>
            <a:off x="5067360" y="1820880"/>
            <a:ext cx="2001600" cy="1439640"/>
            <a:chOff x="5067360" y="1820880"/>
            <a:chExt cx="2001600" cy="1439640"/>
          </a:xfrm>
        </p:grpSpPr>
        <p:sp>
          <p:nvSpPr>
            <p:cNvPr id="1081" name="文本框 14"/>
            <p:cNvSpPr/>
            <p:nvPr/>
          </p:nvSpPr>
          <p:spPr>
            <a:xfrm>
              <a:off x="5067360" y="1820880"/>
              <a:ext cx="200160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3     2   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+   4    8   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直接连接符 16"/>
            <p:cNvSpPr/>
            <p:nvPr/>
          </p:nvSpPr>
          <p:spPr>
            <a:xfrm>
              <a:off x="5220360" y="2661840"/>
              <a:ext cx="1695600" cy="0"/>
            </a:xfrm>
            <a:prstGeom prst="line">
              <a:avLst/>
            </a:prstGeom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文本框 17"/>
            <p:cNvSpPr/>
            <p:nvPr/>
          </p:nvSpPr>
          <p:spPr>
            <a:xfrm>
              <a:off x="5480280" y="2718720"/>
              <a:ext cx="143568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8     0  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组合 27"/>
          <p:cNvGrpSpPr/>
          <p:nvPr/>
        </p:nvGrpSpPr>
        <p:grpSpPr>
          <a:xfrm>
            <a:off x="474840" y="4067280"/>
            <a:ext cx="2061720" cy="1442880"/>
            <a:chOff x="474840" y="4067280"/>
            <a:chExt cx="2061720" cy="1442880"/>
          </a:xfrm>
        </p:grpSpPr>
        <p:sp>
          <p:nvSpPr>
            <p:cNvPr id="1085" name="文本框 18"/>
            <p:cNvSpPr/>
            <p:nvPr/>
          </p:nvSpPr>
          <p:spPr>
            <a:xfrm>
              <a:off x="474840" y="4067280"/>
              <a:ext cx="2001960" cy="7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</a:t>
              </a: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6     9   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+   2    7   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文本框 20"/>
            <p:cNvSpPr/>
            <p:nvPr/>
          </p:nvSpPr>
          <p:spPr>
            <a:xfrm>
              <a:off x="583200" y="5121720"/>
              <a:ext cx="17560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直接连接符 21"/>
            <p:cNvSpPr/>
            <p:nvPr/>
          </p:nvSpPr>
          <p:spPr>
            <a:xfrm>
              <a:off x="597960" y="4959720"/>
              <a:ext cx="1756080" cy="0"/>
            </a:xfrm>
            <a:prstGeom prst="line">
              <a:avLst/>
            </a:prstGeom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文本框 23"/>
            <p:cNvSpPr/>
            <p:nvPr/>
          </p:nvSpPr>
          <p:spPr>
            <a:xfrm>
              <a:off x="887040" y="5121720"/>
              <a:ext cx="164952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9    6   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组合 26"/>
          <p:cNvGrpSpPr/>
          <p:nvPr/>
        </p:nvGrpSpPr>
        <p:grpSpPr>
          <a:xfrm>
            <a:off x="5067360" y="4067280"/>
            <a:ext cx="2001600" cy="1372680"/>
            <a:chOff x="5067360" y="4067280"/>
            <a:chExt cx="2001600" cy="1372680"/>
          </a:xfrm>
        </p:grpSpPr>
        <p:sp>
          <p:nvSpPr>
            <p:cNvPr id="1090" name="文本框 19"/>
            <p:cNvSpPr/>
            <p:nvPr/>
          </p:nvSpPr>
          <p:spPr>
            <a:xfrm>
              <a:off x="5067360" y="4067280"/>
              <a:ext cx="2001600" cy="74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3     4   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+   2    6    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直接连接符 22"/>
            <p:cNvSpPr/>
            <p:nvPr/>
          </p:nvSpPr>
          <p:spPr>
            <a:xfrm>
              <a:off x="5159880" y="4959000"/>
              <a:ext cx="1756080" cy="0"/>
            </a:xfrm>
            <a:prstGeom prst="line">
              <a:avLst/>
            </a:prstGeom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文本框 24"/>
            <p:cNvSpPr/>
            <p:nvPr/>
          </p:nvSpPr>
          <p:spPr>
            <a:xfrm>
              <a:off x="5392080" y="5010840"/>
              <a:ext cx="1676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6    0   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文本框 1"/>
          <p:cNvSpPr/>
          <p:nvPr/>
        </p:nvSpPr>
        <p:spPr>
          <a:xfrm>
            <a:off x="441360" y="798480"/>
            <a:ext cx="645012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三、解决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文本框 3"/>
          <p:cNvSpPr/>
          <p:nvPr/>
        </p:nvSpPr>
        <p:spPr>
          <a:xfrm>
            <a:off x="441360" y="1346040"/>
            <a:ext cx="84027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校买了一批故事书，分给五年级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，分给六年级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图片 4" descr="CUXN%~([ZG7`$DQ12[_HE~N"/>
          <p:cNvPicPr/>
          <p:nvPr/>
        </p:nvPicPr>
        <p:blipFill>
          <a:blip r:embed="rId1"/>
          <a:stretch/>
        </p:blipFill>
        <p:spPr>
          <a:xfrm>
            <a:off x="7182000" y="2773440"/>
            <a:ext cx="1280880" cy="1952640"/>
          </a:xfrm>
          <a:prstGeom prst="rect">
            <a:avLst/>
          </a:prstGeom>
          <a:ln w="0">
            <a:noFill/>
          </a:ln>
        </p:spPr>
      </p:pic>
      <p:pic>
        <p:nvPicPr>
          <p:cNvPr id="1096" name="图片 8" descr="R6PEPN8X6D$W%S4WDXFKZF2"/>
          <p:cNvPicPr/>
          <p:nvPr/>
        </p:nvPicPr>
        <p:blipFill>
          <a:blip r:embed="rId2"/>
          <a:stretch/>
        </p:blipFill>
        <p:spPr>
          <a:xfrm>
            <a:off x="5091120" y="2892600"/>
            <a:ext cx="2257560" cy="1969920"/>
          </a:xfrm>
          <a:prstGeom prst="rect">
            <a:avLst/>
          </a:prstGeom>
          <a:ln w="0">
            <a:noFill/>
          </a:ln>
        </p:spPr>
      </p:pic>
      <p:sp>
        <p:nvSpPr>
          <p:cNvPr id="1097" name="文本框 5"/>
          <p:cNvSpPr/>
          <p:nvPr/>
        </p:nvSpPr>
        <p:spPr>
          <a:xfrm>
            <a:off x="5473800" y="3014640"/>
            <a:ext cx="15872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五、六年级一共分了多少本故事书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文本框 6"/>
          <p:cNvSpPr/>
          <p:nvPr/>
        </p:nvSpPr>
        <p:spPr>
          <a:xfrm>
            <a:off x="892080" y="2671920"/>
            <a:ext cx="36086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9+36=65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本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文本框 7"/>
          <p:cNvSpPr/>
          <p:nvPr/>
        </p:nvSpPr>
        <p:spPr>
          <a:xfrm>
            <a:off x="179280" y="3610080"/>
            <a:ext cx="49802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答：五、六年级一共分了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65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本故事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文本框 1"/>
          <p:cNvSpPr/>
          <p:nvPr/>
        </p:nvSpPr>
        <p:spPr>
          <a:xfrm>
            <a:off x="279360" y="1054080"/>
            <a:ext cx="29653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买衣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1" name="图片 3" descr="_4`F[E$PX4I}_~SSZVJ7V4J"/>
          <p:cNvPicPr/>
          <p:nvPr/>
        </p:nvPicPr>
        <p:blipFill>
          <a:blip r:embed="rId1"/>
          <a:stretch/>
        </p:blipFill>
        <p:spPr>
          <a:xfrm flipH="1">
            <a:off x="0" y="2406600"/>
            <a:ext cx="1192320" cy="1805040"/>
          </a:xfrm>
          <a:prstGeom prst="rect">
            <a:avLst/>
          </a:prstGeom>
          <a:ln w="0">
            <a:noFill/>
          </a:ln>
        </p:spPr>
      </p:pic>
      <p:pic>
        <p:nvPicPr>
          <p:cNvPr id="1102" name="图片 4" descr="L7F1C5`_RF$D@243BNH20)F"/>
          <p:cNvPicPr/>
          <p:nvPr/>
        </p:nvPicPr>
        <p:blipFill>
          <a:blip r:embed="rId2"/>
          <a:stretch/>
        </p:blipFill>
        <p:spPr>
          <a:xfrm>
            <a:off x="1057320" y="3035160"/>
            <a:ext cx="3000240" cy="1308240"/>
          </a:xfrm>
          <a:prstGeom prst="rect">
            <a:avLst/>
          </a:prstGeom>
          <a:ln w="0">
            <a:noFill/>
          </a:ln>
        </p:spPr>
      </p:pic>
      <p:sp>
        <p:nvSpPr>
          <p:cNvPr id="1103" name="文本框 5"/>
          <p:cNvSpPr/>
          <p:nvPr/>
        </p:nvSpPr>
        <p:spPr>
          <a:xfrm>
            <a:off x="1682640" y="3191040"/>
            <a:ext cx="21034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我拿了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元钱，买这套衣服够不够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4" name="图片 6" descr="5S%`{3~XL[OP{C7639SJ7L2"/>
          <p:cNvPicPr/>
          <p:nvPr/>
        </p:nvPicPr>
        <p:blipFill>
          <a:blip r:embed="rId3"/>
          <a:stretch/>
        </p:blipFill>
        <p:spPr>
          <a:xfrm>
            <a:off x="3086280" y="1536840"/>
            <a:ext cx="1190520" cy="1025280"/>
          </a:xfrm>
          <a:prstGeom prst="rect">
            <a:avLst/>
          </a:prstGeom>
          <a:ln w="0">
            <a:noFill/>
          </a:ln>
        </p:spPr>
      </p:pic>
      <p:pic>
        <p:nvPicPr>
          <p:cNvPr id="1105" name="图片 7" descr="9_DDCZ7QMYXJ(S0[3_[K[26"/>
          <p:cNvPicPr/>
          <p:nvPr/>
        </p:nvPicPr>
        <p:blipFill>
          <a:blip r:embed="rId4"/>
          <a:stretch/>
        </p:blipFill>
        <p:spPr>
          <a:xfrm>
            <a:off x="5153040" y="1487520"/>
            <a:ext cx="831960" cy="1074600"/>
          </a:xfrm>
          <a:prstGeom prst="rect">
            <a:avLst/>
          </a:prstGeom>
          <a:ln w="0">
            <a:noFill/>
          </a:ln>
        </p:spPr>
      </p:pic>
      <p:sp>
        <p:nvSpPr>
          <p:cNvPr id="1106" name="文本框 8"/>
          <p:cNvSpPr/>
          <p:nvPr/>
        </p:nvSpPr>
        <p:spPr>
          <a:xfrm>
            <a:off x="3198960" y="2787480"/>
            <a:ext cx="963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文本框 9"/>
          <p:cNvSpPr/>
          <p:nvPr/>
        </p:nvSpPr>
        <p:spPr>
          <a:xfrm>
            <a:off x="5086440" y="2787480"/>
            <a:ext cx="9651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8" name="组合 21"/>
          <p:cNvGrpSpPr/>
          <p:nvPr/>
        </p:nvGrpSpPr>
        <p:grpSpPr>
          <a:xfrm>
            <a:off x="4276800" y="3546360"/>
            <a:ext cx="4542840" cy="459000"/>
            <a:chOff x="4276800" y="3546360"/>
            <a:chExt cx="4542840" cy="459000"/>
          </a:xfrm>
        </p:grpSpPr>
        <p:sp>
          <p:nvSpPr>
            <p:cNvPr id="1109" name="文本框 10"/>
            <p:cNvSpPr/>
            <p:nvPr/>
          </p:nvSpPr>
          <p:spPr>
            <a:xfrm>
              <a:off x="4276800" y="3546360"/>
              <a:ext cx="119520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方法一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文本框 14"/>
            <p:cNvSpPr/>
            <p:nvPr/>
          </p:nvSpPr>
          <p:spPr>
            <a:xfrm>
              <a:off x="5364720" y="3607560"/>
              <a:ext cx="233028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80+260=440</a:t>
              </a:r>
              <a:r>
                <a:rPr b="0" lang="zh-CN" sz="1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（元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文本框 15"/>
            <p:cNvSpPr/>
            <p:nvPr/>
          </p:nvSpPr>
          <p:spPr>
            <a:xfrm>
              <a:off x="7451280" y="3630600"/>
              <a:ext cx="136836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Arial"/>
                </a:rPr>
                <a:t>440</a:t>
              </a:r>
              <a:r>
                <a:rPr b="0" lang="zh-CN" sz="1800" spc="-1" strike="noStrike">
                  <a:solidFill>
                    <a:srgbClr val="c00000"/>
                  </a:solidFill>
                  <a:latin typeface="Arial"/>
                  <a:ea typeface="宋体"/>
                </a:rPr>
                <a:t>＜</a:t>
              </a:r>
              <a:r>
                <a:rPr b="0" lang="en-US" sz="1800" spc="-1" strike="noStrike">
                  <a:solidFill>
                    <a:srgbClr val="c00000"/>
                  </a:solidFill>
                  <a:latin typeface="Arial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2" name="组合 20"/>
          <p:cNvGrpSpPr/>
          <p:nvPr/>
        </p:nvGrpSpPr>
        <p:grpSpPr>
          <a:xfrm>
            <a:off x="4276800" y="4567320"/>
            <a:ext cx="3239640" cy="1093320"/>
            <a:chOff x="4276800" y="4567320"/>
            <a:chExt cx="3239640" cy="1093320"/>
          </a:xfrm>
        </p:grpSpPr>
        <p:sp>
          <p:nvSpPr>
            <p:cNvPr id="1113" name="文本框 12"/>
            <p:cNvSpPr/>
            <p:nvPr/>
          </p:nvSpPr>
          <p:spPr>
            <a:xfrm>
              <a:off x="4276800" y="4567320"/>
              <a:ext cx="11952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方法二</a:t>
              </a:r>
              <a:r>
                <a:rPr b="0" lang="zh-CN" sz="1800" spc="-1" strike="noStrike">
                  <a:solidFill>
                    <a:srgbClr val="c00000"/>
                  </a:solidFill>
                  <a:latin typeface="Calibri"/>
                  <a:ea typeface="宋体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文本框 16"/>
            <p:cNvSpPr/>
            <p:nvPr/>
          </p:nvSpPr>
          <p:spPr>
            <a:xfrm>
              <a:off x="5407200" y="4631760"/>
              <a:ext cx="204480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80</a:t>
              </a:r>
              <a:r>
                <a:rPr b="0" lang="zh-CN" sz="1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看作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文本框 17"/>
            <p:cNvSpPr/>
            <p:nvPr/>
          </p:nvSpPr>
          <p:spPr>
            <a:xfrm>
              <a:off x="5472000" y="4941360"/>
              <a:ext cx="204444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60</a:t>
              </a:r>
              <a:r>
                <a:rPr b="0" lang="zh-CN" sz="1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看作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文本框 18"/>
            <p:cNvSpPr/>
            <p:nvPr/>
          </p:nvSpPr>
          <p:spPr>
            <a:xfrm>
              <a:off x="5472000" y="5387400"/>
              <a:ext cx="16358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00+300=5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7" name="文本框 19"/>
          <p:cNvSpPr/>
          <p:nvPr/>
        </p:nvSpPr>
        <p:spPr>
          <a:xfrm>
            <a:off x="3500280" y="5770440"/>
            <a:ext cx="4167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答：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500</a:t>
            </a:r>
            <a:r>
              <a:rPr b="0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元钱够买这套衣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文本框 1"/>
          <p:cNvSpPr/>
          <p:nvPr/>
        </p:nvSpPr>
        <p:spPr>
          <a:xfrm>
            <a:off x="365040" y="768240"/>
            <a:ext cx="74930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面是阳光小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献爱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捐款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9" name=""/>
          <p:cNvGraphicFramePr/>
          <p:nvPr/>
        </p:nvGraphicFramePr>
        <p:xfrm>
          <a:off x="738360" y="1374840"/>
          <a:ext cx="6283080" cy="1481040"/>
        </p:xfrm>
        <a:graphic>
          <a:graphicData uri="http://schemas.openxmlformats.org/drawingml/2006/table">
            <a:tbl>
              <a:tblPr/>
              <a:tblGrid>
                <a:gridCol w="1601280"/>
                <a:gridCol w="1560600"/>
                <a:gridCol w="1559160"/>
                <a:gridCol w="1562040"/>
              </a:tblGrid>
              <a:tr h="311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年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年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二年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三年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额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年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四年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五年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六年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额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0" name="文本框 5"/>
          <p:cNvSpPr/>
          <p:nvPr/>
        </p:nvSpPr>
        <p:spPr>
          <a:xfrm>
            <a:off x="701640" y="3076560"/>
            <a:ext cx="4054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五年级比四年级多捐款多少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文本框 6"/>
          <p:cNvSpPr/>
          <p:nvPr/>
        </p:nvSpPr>
        <p:spPr>
          <a:xfrm>
            <a:off x="701640" y="4397400"/>
            <a:ext cx="65959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一年级和二年级大约一共捐款多少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文本框 7"/>
          <p:cNvSpPr/>
          <p:nvPr/>
        </p:nvSpPr>
        <p:spPr>
          <a:xfrm>
            <a:off x="2563920" y="3554280"/>
            <a:ext cx="21081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10-450=60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（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文本框 8"/>
          <p:cNvSpPr/>
          <p:nvPr/>
        </p:nvSpPr>
        <p:spPr>
          <a:xfrm>
            <a:off x="1776240" y="3968640"/>
            <a:ext cx="378324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答：五年级比四年级多捐款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元</a:t>
            </a:r>
            <a:r>
              <a:rPr b="0" lang="zh-CN" sz="2000" spc="-1" strike="noStrike">
                <a:solidFill>
                  <a:srgbClr val="c00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文本框 9"/>
          <p:cNvSpPr/>
          <p:nvPr/>
        </p:nvSpPr>
        <p:spPr>
          <a:xfrm>
            <a:off x="1776240" y="4908600"/>
            <a:ext cx="48895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02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接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近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00</a:t>
            </a:r>
            <a:r>
              <a:rPr b="0" lang="en-US" sz="18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95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接近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00</a:t>
            </a:r>
            <a:r>
              <a:rPr b="0" lang="en-US" sz="18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00+400=700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（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文本框 10"/>
          <p:cNvSpPr/>
          <p:nvPr/>
        </p:nvSpPr>
        <p:spPr>
          <a:xfrm>
            <a:off x="1701720" y="5419800"/>
            <a:ext cx="496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答：一年级和二年级大约一共捐款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700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6:26:07Z</dcterms:created>
  <dc:creator/>
  <dc:description/>
  <dc:language>en-US</dc:language>
  <cp:lastModifiedBy>万润仪器贸易公司</cp:lastModifiedBy>
  <dcterms:modified xsi:type="dcterms:W3CDTF">2020-08-21T01:14:42Z</dcterms:modified>
  <cp:revision>9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